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FF5-37D1-45B4-9057-E82042AA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C2F-26B6-4882-8F7E-81395C55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A5F-5006-4A77-950F-5D2FDC89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3FE-D78B-45B5-8494-4CDE51CF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C767-BA1A-4F15-8F3D-6BD04299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4C89-DC72-4749-8669-D7DB8786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17A8-2E94-4BF4-BF3F-F530C919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EDF5-8013-47D7-A4DC-46CF117D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1612-0957-446A-A167-D04163D9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B6CB-6229-4F17-B50A-7993838F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2766-F611-483B-B4AD-428B9E31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390-087C-4238-9CF1-2D153347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F8E8-C3E9-4FCE-976E-E22163D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9199-6B8D-4684-A34A-827CEEDC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FDCF-3A81-4E52-9940-8F7AEA48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91BE-EBD1-4E15-87F3-8E66E461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6D67-0EBD-4F72-B8D9-8E9112CC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C33-3666-469C-919E-BD5EAE6B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A45-8F6F-45C2-B41E-1068E44A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A27-80E6-42AD-8578-5B5B427C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D8C-2B1F-4558-9BAF-9A1ECA10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EA8-8CC9-4866-8607-B1D9A276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D2C-39B6-4AE8-BB88-80F7B01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616-E8AB-44CB-B630-5317FC50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F0B0-7C8D-4FE5-A43B-C48775845A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9EF8-50F8-4F21-B49A-3C9918A2C5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84872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he Three Domains of Learning 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4286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Dr. Verk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EDG 44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Teaching Strategies and Classroom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niversity of Central Florida, Orlando, F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90720" y="17784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vels of the Cognitive 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930240"/>
          <a:ext cx="8382240" cy="5394240"/>
        </p:xfrm>
        <a:graphic>
          <a:graphicData uri="http://schemas.openxmlformats.org/drawingml/2006/table">
            <a:tbl>
              <a:tblPr/>
              <a:tblGrid>
                <a:gridCol w="1347840"/>
                <a:gridCol w="3452760"/>
                <a:gridCol w="1262160"/>
                <a:gridCol w="2319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Ver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Knowled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recall or recognize information in some pre-arranged for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fin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L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Define levels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Comprehen-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understand meaning of information based on prior lear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scribe Expl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Interpr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Explain purpose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utilize information to complete a task with limited direc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mp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Solv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Write objective for levels of cognitive domai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An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classify and relate assumptions or eviden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Ex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Compare cognitive &amp; affective domai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Synthe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To integrate or combine ideas into a new product or pla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Design Develop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Organ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Design way to write objectives that combines 3 domai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Critique idea based on specific standards and criteria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Apprai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Judg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Justif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Judge effectiveness of writing objectives using taxonom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"/>
          <p:cNvSpPr/>
          <p:nvPr/>
        </p:nvSpPr>
        <p:spPr>
          <a:xfrm>
            <a:off x="2615760" y="64119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ble developed by W. Huitt (199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lesson plan must include goals/objectives, or statements indicating what students should be able to do at the end of a period of instru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goals are known as goal statements, goals objectives, objectives, or learning target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are said to come from the affective domai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ffective domain contains five levels, each of which builds upon the other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781680" y="4800600"/>
            <a:ext cx="130824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th-1.jpg"/>
          <p:cNvPicPr/>
          <p:nvPr/>
        </p:nvPicPr>
        <p:blipFill>
          <a:blip r:embed="rId1"/>
          <a:stretch/>
        </p:blipFill>
        <p:spPr>
          <a:xfrm>
            <a:off x="5757840" y="2286000"/>
            <a:ext cx="201456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858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vels of the Affective Dom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295280"/>
          <a:ext cx="8381880" cy="475452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1295280"/>
                <a:gridCol w="22096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Verb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Recei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Being aware of, or attending to something in the environm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List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Notic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Tole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Listen attentively to badminton introduc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Respo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Showing some new behavior as a result of experien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mply Enjo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Fol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Voluntarily help set up badminton ne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Valu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Showing some definite involvement or commitm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arry out Exp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Attend optional badminton matc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Organ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Integrating a new value into one's general set of values relative to other prioriti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hoos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Consider Pref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Purchase own badminton racke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e2323"/>
                          </a:solidFill>
                          <a:latin typeface="Times New Roman"/>
                          <a:ea typeface="ＭＳ Ｐゴシック"/>
                        </a:rPr>
                        <a:t>Characteriz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ＭＳ Ｐゴシック"/>
                        </a:rPr>
                        <a:t>Acting consistently with the new value; person is known by the valu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Act on Depic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127140"/>
                          </a:solidFill>
                          <a:latin typeface="Times New Roman"/>
                          <a:ea typeface="ＭＳ Ｐゴシック"/>
                        </a:rPr>
                        <a:t>Exemplif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Times New Roman"/>
                          <a:ea typeface="ＭＳ Ｐゴシック"/>
                        </a:rPr>
                        <a:t>Join intramurals to play badminton twice per wee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21" name="TextBox 1"/>
          <p:cNvSpPr/>
          <p:nvPr/>
        </p:nvSpPr>
        <p:spPr>
          <a:xfrm>
            <a:off x="2552040" y="632448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ble developed by W. Huitt (199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ing – gross motor control, such as skipping and ru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ng – fine motor coordination, such as writing, drawing, cu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ing – communication of ideas and feelings, such as body language, gestures, and facial expre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 (such as drama, dance, art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bjectives in the schools                                tend to come from the cognitive                             doma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gnitive domains most referred t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of Educational Objectives; six hierarchical leve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on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ips the last two levels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34936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                        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09-03T11:08:52Z</cp:lastPrinted>
  <dcterms:modified xsi:type="dcterms:W3CDTF">2017-01-01T10:15:00Z</dcterms:modified>
  <cp:revision>265</cp:revision>
  <dc:subject/>
  <dc:title>Slide 1</dc:title>
</cp:coreProperties>
</file>